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FA1-BED2-4A4A-8765-6A5A628F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D56-596A-4C49-A850-91942221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5B190-9CB2-4CB3-B578-E752E01F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2D68D-022B-4DA7-886D-7CE496BD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AB1B9-873A-4C8E-8D55-A99DB2EE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D8C8C-948B-4A1D-ACD3-AEBC970B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275DD-87B7-421E-8CEB-5B7E30C9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F8382-C9C4-4519-A10B-2B705496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D910E-9233-4911-BA35-15E2296A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75C88-C0AA-42B7-865B-8D04A7A1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E0168-F0A3-4FFA-A563-02C1B0D6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C39AC-9FCF-4467-B999-4C8F69AE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1ED3-3069-4BBD-9071-E642E1C7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49793-0AD8-421B-A90F-D202ABE1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6BB9C-0C40-486F-9757-A6806007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F06D1-903B-42DA-8761-C4293D1C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CBE2D-E92E-468C-B2EF-095205C2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0564F-A820-4BF9-A1FF-38452194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018AD-83A1-42CA-871D-B457469F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5168F-84B9-489C-BAA7-F402BF3F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26A5E-EF0E-4F9A-8BEF-535A9053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C0DDE-3D91-4024-8E95-2B768F2C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15F7A-16A4-4A85-A34A-11D4B7C5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8E4-4DEA-48DA-884B-FB8FC16A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93CB3-A0E0-49B3-B382-E50CC80F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E7799-2E9A-4C61-911E-9592B36C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6B855-E3DF-468F-9B37-755B968F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5CDAC-4239-4B01-BA7B-72043226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F94C9-CB60-4643-8C5A-9C07EC5D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CFE64-06B5-463A-9F06-671DC3C3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15DDB-5B65-4C2A-AB44-F4FFB38C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20B48-C169-4F70-AB2C-D4E12193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A2DEE-EF80-434A-A95E-BA9D2739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BE9F7-E0D8-4183-9FC3-2FA9DBC3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CCCCC-AA15-4173-ADB6-1603B237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CEF9D-080D-4DBF-AEC7-8F9B9F0D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75DC4-7C61-4251-950C-534602E0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573-DB15-47C5-8A61-E2387F26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2A1F-E277-410E-9548-4BB0C49A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3821-788A-4F6D-AC46-467AE66F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D8A9-F34E-432C-9472-5741712D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1C0B-E91B-4249-98CB-6B1F7DD6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640C-173A-43D7-B2EE-94EB781D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5BCD-BB23-40E8-8250-06423826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50EF-B9C7-49E0-B95B-754CAB9C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0026-8194-41AA-AE49-A48C9E15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43BF-6F4B-4B39-94AF-EA5F5387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6F7D-A7B3-45E1-9947-825ED9DE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0A36-2FBE-498A-855A-F013F5D3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4E73-B070-4DDE-8A5B-902484CE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7662-BCF7-402A-A4D1-92B0249B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562E-8B01-4B68-B61C-5E9B4272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CD73F-EB0A-4E75-A3F0-ADFC4958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0848-B079-443E-828E-15096F9F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6BD-CCCF-47F7-BDC3-D1017717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70AB-E1D3-4F8C-BCDB-494CD0CB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7F224-A4AB-47CD-BCC7-42CBDEC9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C5EC-F5C2-45D5-947D-BA8B6186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4BB82-E5FA-4516-BCD7-50C5BDAB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217AF-47BE-44DB-BF78-22CEC70B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58F0-7FC4-4D38-8D09-549249A2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2C10-121F-4A5A-AE5D-07E56D9F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87519-5E85-462E-9A58-F604FCFA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7903D-5792-4701-BD4C-63C446BE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D7D3D-AED5-4171-964E-E2F723A4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995-8441-4EC0-9DA7-CE768B5F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FE98C-4DEA-43F1-979B-7D8E2481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35735-DB74-413D-BB92-62641174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7F06A-FD2B-499C-A769-167946BB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5A278-A771-4927-8077-EAAEAEB8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A8623-66AF-4CF3-8926-98E6735F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88622-2C96-4400-9E1F-05CA3537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A0337-D267-4D28-8321-2BF7DA74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3C492-2052-47E9-A424-E4DF2440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6B0F3-0524-419B-8A80-0C8F8973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179C0-F1A4-44A7-9753-568A391D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68B3-B7CF-4813-A189-A1B54CD8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E0773-2970-4971-AB13-00230350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6DE6C-C694-4FEF-ADA2-D9B50EF6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4EFAE-064F-4130-8424-84B0EA63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BD834-FFD3-4141-AD00-4C9F7306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1037C-0802-45E8-BD78-9D4D627C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876D7-BA57-461D-B4FA-F6AC8C14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86B7B-664A-425D-8A94-B3807C6C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D5A92-A9D2-4A01-B367-07FA277E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3686F-048A-4032-B0D4-29F485D1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093F4-F4B5-4974-B7A7-2F077656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AD0-DB51-4F1C-BC34-D4F3244C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47853-E496-4D76-B206-C389AEC5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10553-E9D9-4B6D-82B1-D3F4B8E2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2AEB6-2311-4AAD-B751-80B372FC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A9F71-D8BE-4C35-A0CD-875E8F3C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F89FE-E807-4785-838C-2B96742C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1A031-2D1D-4921-8C8C-F5B08561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CB62A-19B9-44CD-B4C6-BB1D5C2E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9D4CC-1B6F-441A-A2EE-605E4EC8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C5865-7987-4CD0-98EC-9D9B9D84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70136-BDCF-4E0E-8290-700C4F62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F2A-4D7B-4BDB-80CB-C066FEC4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3FC51-2E15-44E5-80B9-C26336DF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4A37C-3EF9-4A48-BF46-12C226D1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5B5D1-FC2C-4531-8FFD-74FDB661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DDDAF-33C4-458B-A585-EB513025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8AD8F-BB89-4175-8493-118BA609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6EDA4-5DFB-4497-89A5-F7132D74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EB9F1-0C9F-49D7-9102-09F85D1B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5A7B6-D2B0-48A4-8A64-8A51D2CB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8219A-3877-4135-B58B-279C62FF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7928B-5F7B-4334-A7E0-D019BC8D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D85-D291-48DB-82C1-C8DBDE54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244080"/>
            <a:ext cx="596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9901D-D33D-4491-A2C9-7C74B76D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90F3A-04BA-4B32-B847-264DC6B8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11F42-B1AB-466A-9416-B4CFF324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6C912-3CFF-4BB9-94A8-FC8C7A8E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066680" y="4044960"/>
            <a:ext cx="739152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AD0B5-66E8-407F-B128-7D863635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54240" y="167652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06668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854240" y="4044960"/>
            <a:ext cx="360684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6F9B0-8C9B-45AC-84F4-91B36559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6616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65280" y="167652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0666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56616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65280" y="4044960"/>
            <a:ext cx="237996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0100E-5242-4A13-8887-56D85F68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6E299-AD7D-4166-8241-BAAB244B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E360D-8586-42FF-B01C-A9782103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1A49F-DF72-437E-9D7A-50F7813D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October 21, 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esenting for the P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38D2-9FC6-479E-9482-04098FC0367D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7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415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5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6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8560-451D-45E0-83EE-02087661FB9E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461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7599-B884-4050-9C70-107DC5CBDFCC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ject 8" descr=""/>
          <p:cNvPicPr/>
          <p:nvPr/>
        </p:nvPicPr>
        <p:blipFill>
          <a:blip r:embed="rId2"/>
          <a:stretch/>
        </p:blipFill>
        <p:spPr>
          <a:xfrm>
            <a:off x="0" y="0"/>
            <a:ext cx="38160" cy="3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"/>
          <p:cNvPicPr/>
          <p:nvPr/>
        </p:nvPicPr>
        <p:blipFill>
          <a:blip r:embed="rId3"/>
          <a:stretch/>
        </p:blipFill>
        <p:spPr>
          <a:xfrm>
            <a:off x="0" y="66600"/>
            <a:ext cx="3384720" cy="984240"/>
          </a:xfrm>
          <a:prstGeom prst="rect">
            <a:avLst/>
          </a:prstGeom>
          <a:ln w="0">
            <a:noFill/>
          </a:ln>
        </p:spPr>
      </p:pic>
      <p:grpSp>
        <p:nvGrpSpPr>
          <p:cNvPr id="48" name="Rectangle 3"/>
          <p:cNvGrpSpPr/>
          <p:nvPr/>
        </p:nvGrpSpPr>
        <p:grpSpPr>
          <a:xfrm>
            <a:off x="914400" y="2822400"/>
            <a:ext cx="7516800" cy="43200"/>
            <a:chOff x="914400" y="2822400"/>
            <a:chExt cx="7516800" cy="43200"/>
          </a:xfrm>
        </p:grpSpPr>
        <p:pic>
          <p:nvPicPr>
            <p:cNvPr id="49" name="Rectangle 3" descr=""/>
            <p:cNvPicPr/>
            <p:nvPr/>
          </p:nvPicPr>
          <p:blipFill>
            <a:blip r:embed="rId4"/>
            <a:stretch/>
          </p:blipFill>
          <p:spPr>
            <a:xfrm>
              <a:off x="914400" y="2822400"/>
              <a:ext cx="7516800" cy="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14400" y="2822400"/>
              <a:ext cx="7513560" cy="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Rectangle 2"/>
          <p:cNvSpPr/>
          <p:nvPr/>
        </p:nvSpPr>
        <p:spPr>
          <a:xfrm>
            <a:off x="1752480" y="205740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93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A281-37B4-4C11-89FF-0661F4EDD451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139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3258-DAC2-4880-87BA-2D10FB138484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185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4E33-0F03-4BF6-A08E-18CA114CD081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231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CD19-2206-4C3B-B01B-E25CC2EE50AA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277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26B0-9EED-4F72-B5C7-339191A8FDD1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323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435E-EB18-4F4F-8AE7-9D4F287E217B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8" descr=""/>
          <p:cNvPicPr/>
          <p:nvPr/>
        </p:nvPicPr>
        <p:blipFill>
          <a:blip r:embed="rId2"/>
          <a:stretch/>
        </p:blipFill>
        <p:spPr>
          <a:xfrm>
            <a:off x="39600" y="60480"/>
            <a:ext cx="876240" cy="8665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"/>
          <p:cNvSpPr/>
          <p:nvPr/>
        </p:nvSpPr>
        <p:spPr>
          <a:xfrm>
            <a:off x="1012680" y="217440"/>
            <a:ext cx="32040" cy="105264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Rectangle 3"/>
          <p:cNvGrpSpPr/>
          <p:nvPr/>
        </p:nvGrpSpPr>
        <p:grpSpPr>
          <a:xfrm>
            <a:off x="152280" y="957240"/>
            <a:ext cx="8686800" cy="49320"/>
            <a:chOff x="152280" y="957240"/>
            <a:chExt cx="8686800" cy="49320"/>
          </a:xfrm>
        </p:grpSpPr>
        <p:pic>
          <p:nvPicPr>
            <p:cNvPr id="369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957240"/>
              <a:ext cx="8686800" cy="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52280" y="958680"/>
              <a:ext cx="868680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391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0"/>
              </a:spcBef>
              <a:buClr>
                <a:srgbClr val="3fbc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7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295280" y="244080"/>
            <a:ext cx="596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Click to edit the title text format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January 18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2666520" y="6324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Program Prioritization for Strategic Decision Ma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CDB2-6D24-4DD0-B398-6E09CEF5F8A5}" type="slidenum">
              <a:rPr b="0" lang="en-US" sz="10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09680" y="1605600"/>
            <a:ext cx="4770720" cy="11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Presenting for the Pros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676520" y="3200040"/>
            <a:ext cx="6400800" cy="179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bced"/>
                </a:solidFill>
                <a:latin typeface="Arial"/>
              </a:rPr>
              <a:t>MNN Annual Con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bced"/>
                </a:solidFill>
                <a:latin typeface="Arial"/>
              </a:rPr>
              <a:t>October 21,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bced"/>
                </a:solidFill>
                <a:latin typeface="Arial"/>
              </a:rPr>
              <a:t>Susan H. Ogle, ESC Consul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2280" y="5527800"/>
            <a:ext cx="228600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7928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pic>
        <p:nvPicPr>
          <p:cNvPr id="533" name="Content Placeholder 6" descr=""/>
          <p:cNvPicPr/>
          <p:nvPr/>
        </p:nvPicPr>
        <p:blipFill>
          <a:blip r:embed="rId1"/>
          <a:stretch/>
        </p:blipFill>
        <p:spPr>
          <a:xfrm>
            <a:off x="3114720" y="3757680"/>
            <a:ext cx="3057480" cy="23144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"/>
          <p:cNvSpPr/>
          <p:nvPr/>
        </p:nvSpPr>
        <p:spPr>
          <a:xfrm>
            <a:off x="914400" y="121932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f6732"/>
                </a:solidFill>
                <a:latin typeface="Microsoft Sans Serif"/>
                <a:ea typeface="ＭＳ Ｐゴシック"/>
              </a:rPr>
              <a:t>Eat More Cranberries  ! ! ! 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45800" y="3808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Pair Introductions: Using TIPS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838080" y="1212480"/>
            <a:ext cx="7391520" cy="52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, Location, Pos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Experienc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audience (2 to 100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(yearly, monthly , etc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for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/medium/l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: F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5" descr=""/>
          <p:cNvPicPr/>
          <p:nvPr/>
        </p:nvPicPr>
        <p:blipFill>
          <a:blip r:embed="rId1"/>
          <a:stretch/>
        </p:blipFill>
        <p:spPr>
          <a:xfrm>
            <a:off x="6419880" y="4460760"/>
            <a:ext cx="24192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8080" y="1398600"/>
            <a:ext cx="7391520" cy="46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Purpos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learn how positive body language, gestures and voice tone will enable leaders to deliver high impact presen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Proc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ps to use immediately, group discussion and pract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Payof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be more comfortable, confident and persuasive which can lead to greater levels of su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4580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Presenting for the Pros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8200" y="1981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f6732"/>
                </a:solidFill>
                <a:latin typeface="Microsoft Sans Serif"/>
              </a:rPr>
              <a:t>Thank you for your participation!</a:t>
            </a:r>
            <a:endParaRPr b="1" lang="en-US" sz="4000" spc="-1" strike="noStrike">
              <a:solidFill>
                <a:srgbClr val="ef6732"/>
              </a:solidFill>
              <a:latin typeface="Microsoft Sans Serif"/>
            </a:endParaRPr>
          </a:p>
        </p:txBody>
      </p:sp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38196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8080" y="1371600"/>
            <a:ext cx="7391520" cy="46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Purpos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learn how positive body language, gestures and voice tone will enable leaders to deliver high impact presen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Proc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ps to use immediately, group discussion and pract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Payof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be more comfortable, confident and persuasive which can lead to greater levels of su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7928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Presenting for the Pros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Agenda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838080" y="1406160"/>
            <a:ext cx="7391520" cy="419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 Practice: Introduce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ize Self: Dance! Music! Wor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 Practice: Using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and Answers/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"/>
          <p:cNvPicPr/>
          <p:nvPr/>
        </p:nvPicPr>
        <p:blipFill>
          <a:blip r:embed="rId1"/>
          <a:stretch/>
        </p:blipFill>
        <p:spPr>
          <a:xfrm>
            <a:off x="6400800" y="403848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4883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Pair Introductions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62120" y="121932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, Location, Pos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Experienc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audience (2 to 100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(yearly, monthly , etc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for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3fbce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/medium/l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: F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5762520" y="45054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06668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The Worst Human Fears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609480" y="1295280"/>
            <a:ext cx="80773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you most afraid of?” a team of market researchers asked 3,000 Americans.  Many named more than one fear.  The results may surprise you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gest Fe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Nam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Speaking before a group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eigh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Insects and bu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Financial problem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Deep wa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Sick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Dea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Fly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838080" y="5715000"/>
            <a:ext cx="6477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People’s Almanac presents The Book of Lis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David Wallachinsky, Irving Wallace, &amp; Amy Wallac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294920" y="1523520"/>
            <a:ext cx="3124440" cy="19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nce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si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3fbce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d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1880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Energize Yourself!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pic>
        <p:nvPicPr>
          <p:cNvPr id="520" name="Picture 5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878040" cy="190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" descr=""/>
          <p:cNvPicPr/>
          <p:nvPr/>
        </p:nvPicPr>
        <p:blipFill>
          <a:blip r:embed="rId2"/>
          <a:stretch/>
        </p:blipFill>
        <p:spPr>
          <a:xfrm>
            <a:off x="3048120" y="4267080"/>
            <a:ext cx="2286000" cy="20005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3"/>
          <a:stretch/>
        </p:blipFill>
        <p:spPr>
          <a:xfrm>
            <a:off x="6019920" y="4267080"/>
            <a:ext cx="2381040" cy="1924200"/>
          </a:xfrm>
          <a:prstGeom prst="rect">
            <a:avLst/>
          </a:prstGeom>
          <a:ln w="0">
            <a:noFill/>
          </a:ln>
        </p:spPr>
      </p:pic>
      <p:sp>
        <p:nvSpPr>
          <p:cNvPr id="523" name="TextBox 2"/>
          <p:cNvSpPr/>
          <p:nvPr/>
        </p:nvSpPr>
        <p:spPr>
          <a:xfrm>
            <a:off x="4343400" y="1530360"/>
            <a:ext cx="40384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% Body Langu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% Pitch, Pace, Proje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% What We S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47451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10 Presenting Tips 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37720" y="1676520"/>
            <a:ext cx="8001000" cy="39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3680" indent="-463680">
              <a:spcBef>
                <a:spcPts val="3501"/>
              </a:spcBef>
              <a:buClr>
                <a:srgbClr val="3fbce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en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needs v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aly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3501"/>
              </a:spcBef>
              <a:buClr>
                <a:srgbClr val="3fbce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ly: reduc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ness (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phrag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3501"/>
              </a:spcBef>
              <a:buClr>
                <a:srgbClr val="3fbce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al position 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47451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10 Presenting Tips 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762120" y="1676520"/>
            <a:ext cx="8076960" cy="39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3501"/>
              </a:spcBef>
              <a:buClr>
                <a:srgbClr val="3fbce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stu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fu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501"/>
              </a:spcBef>
              <a:buClr>
                <a:srgbClr val="3fbce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ye Cont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oughts: 3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501"/>
              </a:spcBef>
              <a:buClr>
                <a:srgbClr val="3fbce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time (br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600-8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pm; speak 125-15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1371600" y="4724280"/>
            <a:ext cx="17334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47451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f6732"/>
                </a:solidFill>
                <a:latin typeface="Microsoft Sans Serif"/>
              </a:rPr>
              <a:t>10 Presenting Tips </a:t>
            </a:r>
            <a:endParaRPr b="1" lang="en-US" sz="3500" spc="-1" strike="noStrike">
              <a:solidFill>
                <a:srgbClr val="ef6732"/>
              </a:solidFill>
              <a:latin typeface="Microsoft Sans Serif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62120" y="1600200"/>
            <a:ext cx="8076960" cy="39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3501"/>
              </a:spcBef>
              <a:buClr>
                <a:srgbClr val="3fbced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of tone qual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notone, non-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3501"/>
              </a:spcBef>
              <a:buClr>
                <a:srgbClr val="3fbced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level (loud to sof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3501"/>
              </a:spcBef>
              <a:buClr>
                <a:srgbClr val="3fbced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’re not sure…Don’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3501"/>
              </a:spcBef>
              <a:buClr>
                <a:srgbClr val="3fbced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ng PIZZAZ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ll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"/>
          <p:cNvPicPr/>
          <p:nvPr/>
        </p:nvPicPr>
        <p:blipFill>
          <a:blip r:embed="rId1"/>
          <a:stretch/>
        </p:blipFill>
        <p:spPr>
          <a:xfrm>
            <a:off x="3657600" y="5181480"/>
            <a:ext cx="15526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06:32:43Z</dcterms:created>
  <dc:creator>Terry Shemo</dc:creator>
  <dc:description/>
  <dc:language>en-US</dc:language>
  <cp:lastModifiedBy>Elizabeth Donnelly</cp:lastModifiedBy>
  <cp:lastPrinted>2002-04-10T13:33:02Z</cp:lastPrinted>
  <dcterms:modified xsi:type="dcterms:W3CDTF">2015-10-14T13:00:13Z</dcterms:modified>
  <cp:revision>1349</cp:revision>
  <dc:subject/>
  <dc:title>ESC Template</dc:title>
</cp:coreProperties>
</file>